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19240" y="2565000"/>
            <a:ext cx="924552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ccdf2"/>
                </a:solidFill>
                <a:latin typeface="Party LET"/>
              </a:rPr>
              <a:t>Word Work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79560" y="2120400"/>
            <a:ext cx="9245520" cy="44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fbbfe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9880" y="685800"/>
            <a:ext cx="924552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6c7d9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879560" y="327636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d1cf"/>
                </a:solidFill>
                <a:latin typeface="Savoye LET"/>
              </a:rPr>
              <a:t>Words that have opposite meanings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Which word is a antonym for feas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A. snac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B. banque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C. hungr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3" name=""/>
          <p:cNvSpPr/>
          <p:nvPr/>
        </p:nvSpPr>
        <p:spPr>
          <a:xfrm>
            <a:off x="2260440" y="3492360"/>
            <a:ext cx="1981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00af"/>
                </a:solidFill>
                <a:latin typeface="Savoye LET"/>
                <a:ea typeface="Savoye LET"/>
              </a:rPr>
              <a:t>A. snack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6032520" y="4038480"/>
            <a:ext cx="1689120" cy="16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61f7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n antonym for tin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bab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miniscul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enormou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7" name=""/>
          <p:cNvSpPr/>
          <p:nvPr/>
        </p:nvSpPr>
        <p:spPr>
          <a:xfrm>
            <a:off x="2400480" y="5232240"/>
            <a:ext cx="2171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14c7a"/>
                </a:solidFill>
                <a:latin typeface="Savoye LET"/>
                <a:ea typeface="Savoye LET"/>
              </a:rPr>
              <a:t>C. enormous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6172200" y="3616200"/>
            <a:ext cx="2870280" cy="40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31920" y="2895120"/>
            <a:ext cx="92455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Party LET"/>
              </a:rPr>
              <a:t>Homophone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f37d"/>
                </a:solidFill>
                <a:latin typeface="Party LET"/>
              </a:rPr>
              <a:t>Homophones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cab"/>
                </a:solidFill>
                <a:latin typeface="Savoye LET"/>
              </a:rPr>
              <a:t>Words that sound the same but have different meanings and spellings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dbcd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I could smell the _____ of cookies baking when I got hom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A. cen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B. scen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4" name=""/>
          <p:cNvSpPr/>
          <p:nvPr/>
        </p:nvSpPr>
        <p:spPr>
          <a:xfrm>
            <a:off x="5059440" y="2635200"/>
            <a:ext cx="1591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7ccfc"/>
                </a:solidFill>
                <a:latin typeface="Savoye LET"/>
                <a:ea typeface="Savoye LET"/>
              </a:rPr>
              <a:t>scent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5219640" y="4102200"/>
            <a:ext cx="5587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b66eff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I ate a bowl of  _______  for breakfast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A. seria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B. cerea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8" name=""/>
          <p:cNvSpPr/>
          <p:nvPr/>
        </p:nvSpPr>
        <p:spPr>
          <a:xfrm>
            <a:off x="5130720" y="2558880"/>
            <a:ext cx="180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eef3"/>
                </a:solidFill>
                <a:latin typeface="Savoye LET"/>
                <a:ea typeface="Savoye LET"/>
              </a:rPr>
              <a:t>cereal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4889520" y="4021200"/>
            <a:ext cx="520704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3ff98"/>
                </a:solidFill>
                <a:latin typeface="Party LET"/>
              </a:rPr>
              <a:t>Multiple Meaning Words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8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de9f2"/>
                </a:solidFill>
                <a:latin typeface="Party LET"/>
              </a:rPr>
              <a:t>What is a multiple meaning word?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082960" y="3403440"/>
            <a:ext cx="9245520" cy="474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Words that have more than one meaning. 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The meaning of the word depends upon how it is used in the sentenc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082960" y="774720"/>
            <a:ext cx="924552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dffb0"/>
                </a:solidFill>
                <a:latin typeface="Party LET"/>
              </a:rPr>
              <a:t>Try some Multiple Meaning Words</a:t>
            </a:r>
            <a:endParaRPr b="0" lang="en-US" sz="72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082960" y="3060720"/>
            <a:ext cx="9245520" cy="57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Name the word that fits best in both blank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There was a red _____ on her fac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The teacher will ____ the essays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A. do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B. grad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C. mar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1" name=""/>
          <p:cNvSpPr/>
          <p:nvPr/>
        </p:nvSpPr>
        <p:spPr>
          <a:xfrm>
            <a:off x="1841400" y="7365960"/>
            <a:ext cx="3073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b132"/>
                </a:solidFill>
                <a:latin typeface="Savoye LET"/>
                <a:ea typeface="Savoye LET"/>
              </a:rPr>
              <a:t>C. mark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6210360" y="5816520"/>
            <a:ext cx="38098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a83"/>
                </a:solidFill>
                <a:latin typeface="Party LET"/>
              </a:rPr>
              <a:t>Try Again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66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The two men used the swords to _______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There is a white ______ around my yard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A. clou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B. fenc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C. e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5" name=""/>
          <p:cNvSpPr/>
          <p:nvPr/>
        </p:nvSpPr>
        <p:spPr>
          <a:xfrm>
            <a:off x="2171880" y="6095880"/>
            <a:ext cx="1917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6133e"/>
                </a:solidFill>
                <a:latin typeface="Savoye LET"/>
                <a:ea typeface="Savoye LET"/>
              </a:rPr>
              <a:t>B. fence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006960" y="5568840"/>
            <a:ext cx="337824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79560" y="3683160"/>
            <a:ext cx="924552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e6f37d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adbfe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879560" y="347940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adbfe"/>
                </a:solidFill>
                <a:latin typeface="Savoye LET"/>
              </a:rPr>
              <a:t>Words that have similar meanings</a:t>
            </a:r>
            <a:r>
              <a:rPr b="0" lang="en-US" sz="7200" spc="-1" strike="noStrike">
                <a:solidFill>
                  <a:srgbClr val="000000"/>
                </a:solidFill>
                <a:latin typeface="Savoye LET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b00a4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deliciou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tast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gros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unpleasan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2" name=""/>
          <p:cNvSpPr/>
          <p:nvPr/>
        </p:nvSpPr>
        <p:spPr>
          <a:xfrm>
            <a:off x="2094840" y="3524040"/>
            <a:ext cx="2187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a00e6"/>
                </a:solidFill>
                <a:latin typeface="Savoye LET"/>
                <a:ea typeface="Savoye LET"/>
              </a:rPr>
              <a:t>A. tasty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6311880" y="3643200"/>
            <a:ext cx="4013280" cy="35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effb1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bargain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larg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dea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expensiv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6" name=""/>
          <p:cNvSpPr/>
          <p:nvPr/>
        </p:nvSpPr>
        <p:spPr>
          <a:xfrm>
            <a:off x="2247840" y="4343400"/>
            <a:ext cx="1650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194ff"/>
                </a:solidFill>
                <a:latin typeface="Savoye LET"/>
                <a:ea typeface="Savoye LET"/>
              </a:rPr>
              <a:t>B. deal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398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